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DB1-E385-4472-BE71-CE623E11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B51-0916-4017-8F44-82E60EBC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F48-746F-406A-AB65-5D9BF46F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3A7-AABE-4A64-A810-94C8BCDD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1A9-CE56-4055-AEE8-DCF86A6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9A0-7584-4C96-A74C-2451244D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CCA-2B6B-42EE-8B76-FF579897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7BF-4946-4326-A7F5-DF4FB60A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4B0-3106-408A-8124-3C32F649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184-30F8-45BF-BF3C-C33D800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712-D98D-467B-BD57-874FC0A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304-8738-48CC-9634-DFFEE98E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4C89-F9DC-422B-9449-5673859C2D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8 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inem-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t down bitch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you move again I'll beat the shit out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's a four year old boy lyin' dead with a slit throat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living room, ha-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rticle Kate returns to the run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ghtly humorous way of reporting a tragic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ing about a young successful woman who developed a dru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lerance for reformed drug laws are moving forward (DWI, D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titudes towards recreational drugs are based on three miscon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ug use usually leads to criminal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ugs usually lead to ad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adolescents are pressured to us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wing perception emerged that government had become too big and costly, and it’s role in the economy should be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obalization- employees were expected to do more with less, departments merged, perks reduced and benefits cut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al mores have shifted so that employees now expect to work harder and put in more hours than they did 20 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this leads to a level of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-related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ies have shown stress is more prevalent where mental pressure is persistent and the sense of personal control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system based on Western worldview; human body as a machine and illness as a breakdown in th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role of the medical personnel i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air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rst Nations and Inuit; human body is not a machine that can be fixed independently of a person’s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parts of the patients life must be h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toring 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hysical, emotional, social and spiritual aspects of healing and promotes personal role i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al mores have changed in this regard because anthropologists have demonstrated that it is necessary to respect cultural differences among the population when designing health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ociologists classify our behaviours into a number of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 u="sng">
                <a:solidFill>
                  <a:srgbClr val="000000"/>
                </a:solidFill>
                <a:uFillTx/>
                <a:latin typeface="Arial"/>
              </a:rPr>
              <a:t>Folk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ehaviours that a typical member of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ould usually practi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If a folway is violated the per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ould still be accepted i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 u="sng">
                <a:solidFill>
                  <a:srgbClr val="000000"/>
                </a:solidFill>
                <a:uFillTx/>
                <a:latin typeface="Arial"/>
              </a:rPr>
              <a:t>Social 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ehaviours regarded as essential to the welfare and survival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reaking a social more is not acceptabl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oceity but with changing attitudes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view is slowly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ocial 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’s Flokways and Social Mores have changed dramatically over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ill look at four areas in which our social mores have changed and how these changes affect our well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734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here is a growing tolerance for depections of violenc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Psychologists worry that much media programming designed for young people provide them with poor ro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tarts on Saturday morning cart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edia Awareness Network found that by the time most children are 12 they have seen up to  12 000 violent deaths on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fenders of the programming ofte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t children recognize that it’s a cartoon and that it’s f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sychologists point out that violence is a learned behaviour and that early and continued exposure can condition children to act in viol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ular concern is directed at movies and 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inem- Love the Way You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'm tired of the games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just want her back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know I'm a liar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she ever tries to fucking leave again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'mma tie her to the bed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set the house o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Jason</cp:lastModifiedBy>
  <dcterms:modified xsi:type="dcterms:W3CDTF">2011-05-25T16:12:08Z</dcterms:modified>
  <cp:revision>14</cp:revision>
  <dc:subject/>
  <dc:title>Title</dc:title>
</cp:coreProperties>
</file>